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D60D6-1C31-401C-B0B8-76DE63559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C4A53-6573-41CB-8C26-17E2729FA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8EF16-4B4A-41DA-9540-4C9F556A4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3AE51-2614-4D1C-95F6-4EE6491B8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B1050-5EE7-447D-85A5-39ABDFCB2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36627-1A08-4DD4-9D14-4D9AB8A7F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20B78-2833-42B2-BABF-34256A289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B848C-476D-4CBB-924F-8DD0E21F0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3D061-6231-46A2-BCC1-C76DF1255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0DDDD-0773-46E2-A2C6-B2826248C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70244-E8F5-4B08-A625-21352FC91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BA562-CF0C-4FD4-AF5E-466EEB1B6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3BD9D-2AC7-43E4-83F4-2444F0DA1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93AA8-1B43-4955-8C00-F8B6DAF33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1E40F-8CD6-4D87-88AB-298CDC9C1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86F4F-CD84-4719-B91C-B05E7919F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CE778-8DF0-4646-9B2B-523C1C294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B219D-C197-434C-B7AD-1BE9B0910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2E6DD-4CA8-4D5C-BA5E-1ADC241C0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1FB06-FC51-4210-968E-163E95EDD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92ECD-8469-4B7C-992C-7D03BFF6D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57378-4390-403C-9E5E-E69F70890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C40DE-90C1-49F3-A975-05EFF95A3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429AA-E4F5-4133-AEA9-A717C40E3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26AAC-0F48-4E79-BB3C-473342F3BFC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F8973-1ECE-439D-AD76-1B5895FB049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recorder.pima.gov/voter_forms_loc.aspx" TargetMode="External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Get Out and Vote!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oter Registration Inform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You can register in Pima County if: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 live within Pima County at least 29 days prior to the General Elec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 are a United States Citize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 are 18 or older, or will be 18 by the next General Elec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 have not been convicted of a felony or treason, or if you have, your rights have been restored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 have not been adjudicated an incapacitated person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lete a registration form to: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egister to vot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hange your nam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hange your addres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hange your political part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here can I find a registration form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s link provides locations in Pima County where you can get a registration form in pers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336699"/>
                </a:solidFill>
                <a:uFillTx/>
                <a:latin typeface="Verdana"/>
                <a:hlinkClick r:id="rId2"/>
              </a:rPr>
              <a:t>http://www.recorder.pima.gov/voter_forms_loc.aspx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r register online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You can use EZ Voter if you have met the following criteria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New registrants: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Your driver's license or identification card must have been issued on or after October 1, 1996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ddress changes must have been made through the Arizona Department of Motor Vehicles.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ttps://servicearizona.com/webapp/evoter/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t’s really that easy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Now get out there and exercise your right to vote!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3T20:01:42Z</dcterms:created>
  <dc:creator>ASD</dc:creator>
  <dc:description/>
  <dc:language>en-US</dc:language>
  <cp:lastModifiedBy>Tech</cp:lastModifiedBy>
  <dcterms:modified xsi:type="dcterms:W3CDTF">2010-06-03T20:25:20Z</dcterms:modified>
  <cp:revision>3</cp:revision>
  <dc:subject/>
  <dc:title>Get Out and Vote!</dc:title>
</cp:coreProperties>
</file>